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B375-5762-4741-9A35-10ADF6D382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27F7-E7D3-4077-AE88-4C01E2F0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05E16-E024-453B-9870-47E74268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85829-219D-4BD2-B3AA-05CF0CA2D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74D29-1109-47BB-880F-BDA646022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2C2F-A855-49C7-918F-ADBA80C7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5CDD-A5D7-414E-86CD-D4D51BD1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8C5D-6DFE-43C7-AC49-B16C8852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42C9-CE03-4D7A-ABFA-051D2AA2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447A-0AEE-4388-8B9E-96B373FC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AEA1-DF19-4AAB-9432-E91CD14F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7489-AE50-40EE-A9E5-F5F52EE5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C0E1-65D2-4CDD-A89B-B3FEBB870E4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0328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药理作用和临床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．治疗帕金森病及帕金森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是目前治疗帕金森病及其综合征的最有效的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物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论年龄、性别、病程长短均适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改善静止震颤、肌肉强直、运动迟缓和步态不协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调、面部无表情、流涎等症状，使患者精神活力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，情绪好转，但痴呆症状不易改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2204640"/>
            <a:ext cx="29509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隶书"/>
              </a:rPr>
              <a:t>治疗肝昏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684360" y="2852640"/>
            <a:ext cx="8064360" cy="3456000"/>
          </a:xfrm>
          <a:prstGeom prst="wedgeRectCallout">
            <a:avLst>
              <a:gd name="adj1" fmla="val -24546"/>
              <a:gd name="adj2" fmla="val -63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学说认为：肝功能障碍时血中苯乙胺和酪胺升高，在神经细胞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羟化酶分别生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伪递质苯乙醇胺和羟苯乙醇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取代正常递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N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妨碍神经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脑内转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A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使正常神经活动得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恢复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患者可由昏迷转为苏醒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262080" indent="-262080" algn="just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因不能改善肝功能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作用只是暂时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77964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141640" y="1341360"/>
            <a:ext cx="51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左旋多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6005520" y="5710320"/>
            <a:ext cx="262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治疗作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6661080" y="4565520"/>
            <a:ext cx="1638360" cy="343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>
            <a:off x="5938920" y="5138640"/>
            <a:ext cx="1114200" cy="4003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AutoShape 6"/>
          <p:cNvSpPr/>
          <p:nvPr/>
        </p:nvSpPr>
        <p:spPr>
          <a:xfrm>
            <a:off x="5938920" y="3994200"/>
            <a:ext cx="1114200" cy="3999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462720" y="4508640"/>
            <a:ext cx="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497400" y="5921280"/>
            <a:ext cx="24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外周不良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2333520" y="1932120"/>
            <a:ext cx="1443240" cy="3445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-dop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2111400" y="221940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口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874880" y="2733840"/>
            <a:ext cx="2293920" cy="744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9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被外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MAO-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）代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971640" y="2637000"/>
            <a:ext cx="8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肠壁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3200400" y="4851360"/>
            <a:ext cx="1900080" cy="5731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脱羧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14"/>
          <p:cNvSpPr/>
          <p:nvPr/>
        </p:nvSpPr>
        <p:spPr>
          <a:xfrm>
            <a:off x="2465280" y="5997600"/>
            <a:ext cx="1114560" cy="34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巴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9280" y="508464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在外周细胞（胞浆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916360" y="2349360"/>
            <a:ext cx="334800" cy="327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17"/>
          <p:cNvSpPr/>
          <p:nvPr/>
        </p:nvSpPr>
        <p:spPr>
          <a:xfrm>
            <a:off x="2924280" y="3592440"/>
            <a:ext cx="195120" cy="401760"/>
          </a:xfrm>
          <a:prstGeom prst="downArrow">
            <a:avLst>
              <a:gd name="adj1" fmla="val 50000"/>
              <a:gd name="adj2" fmla="val 51476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18"/>
          <p:cNvSpPr/>
          <p:nvPr/>
        </p:nvSpPr>
        <p:spPr>
          <a:xfrm>
            <a:off x="2924280" y="4737240"/>
            <a:ext cx="195120" cy="1087200"/>
          </a:xfrm>
          <a:prstGeom prst="downArrow">
            <a:avLst>
              <a:gd name="adj1" fmla="val 50000"/>
              <a:gd name="adj2" fmla="val 139299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2392200" y="3809880"/>
            <a:ext cx="2035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进入循环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外周组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20"/>
          <p:cNvSpPr/>
          <p:nvPr/>
        </p:nvSpPr>
        <p:spPr>
          <a:xfrm>
            <a:off x="2201760" y="3478320"/>
            <a:ext cx="525600" cy="682560"/>
          </a:xfrm>
          <a:custGeom>
            <a:avLst/>
            <a:gdLst>
              <a:gd name="textAreaLeft" fmla="*/ 70200 w 525600"/>
              <a:gd name="textAreaRight" fmla="*/ 455400 w 525600"/>
              <a:gd name="textAreaTop" fmla="*/ 119160 h 682560"/>
              <a:gd name="textAreaBottom" fmla="*/ 495000 h 68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684360" y="3630600"/>
            <a:ext cx="1431720" cy="8254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高香草酸，苦杏仁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22"/>
          <p:cNvSpPr/>
          <p:nvPr/>
        </p:nvSpPr>
        <p:spPr>
          <a:xfrm>
            <a:off x="5861160" y="257796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23"/>
          <p:cNvSpPr/>
          <p:nvPr/>
        </p:nvSpPr>
        <p:spPr>
          <a:xfrm>
            <a:off x="5884920" y="257796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4"/>
          <p:cNvSpPr/>
          <p:nvPr/>
        </p:nvSpPr>
        <p:spPr>
          <a:xfrm>
            <a:off x="5908680" y="2590920"/>
            <a:ext cx="0" cy="3809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 rot="55200">
            <a:off x="4067280" y="3715920"/>
            <a:ext cx="1834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极少量（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%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4175640" y="4252320"/>
            <a:ext cx="1780200" cy="2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 rot="21566400">
            <a:off x="4140360" y="42926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进入中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978520" y="2895480"/>
            <a:ext cx="8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脑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31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1125360"/>
            <a:ext cx="5472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内过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和作用机制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2133720"/>
            <a:ext cx="7632720" cy="6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胃肠道反应  ： 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&gt;50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％ 宜饭后服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124000" y="5084640"/>
            <a:ext cx="43927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</a:t>
            </a:r>
            <a:r>
              <a:rPr b="1" lang="en-US" sz="3200" spc="-1" strike="noStrike" baseline="-25000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－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阻断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多潘立酮（吗丁林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2268360" y="2997360"/>
            <a:ext cx="3816360" cy="1237680"/>
          </a:xfrm>
          <a:prstGeom prst="rect">
            <a:avLst/>
          </a:prstGeom>
          <a:solidFill>
            <a:srgbClr val="046ca6"/>
          </a:solidFill>
          <a:ln w="9360">
            <a:solidFill>
              <a:srgbClr val="046ca6"/>
            </a:solidFill>
            <a:miter/>
          </a:ln>
          <a:effectLst>
            <a:outerShdw dist="107932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刺激胃肠道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兴奋呕吐中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D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-R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995640" y="429264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00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28204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611280" y="256536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心血管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684360" y="3284640"/>
            <a:ext cx="66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直立性低血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30%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971640" y="5084640"/>
            <a:ext cx="38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心律不齐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58920" y="3860640"/>
            <a:ext cx="76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作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末梢→抑制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NE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（＋）血管壁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R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血管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908000" y="5661000"/>
            <a:ext cx="41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＋）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心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R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1042920" y="4005360"/>
            <a:ext cx="71640" cy="10792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2355120" y="16279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"/>
          <p:cNvSpPr/>
          <p:nvPr/>
        </p:nvSpPr>
        <p:spPr>
          <a:xfrm>
            <a:off x="1258920" y="2492280"/>
            <a:ext cx="6629400" cy="947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DA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过度兴奋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足、躯体和舌的不自主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84360" y="4365720"/>
            <a:ext cx="640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1514520" y="1989000"/>
            <a:ext cx="377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 多动症：舞蹈、手足徐动症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1123200" y="1556280"/>
            <a:ext cx="30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．中枢神经系统症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84360" y="4147920"/>
            <a:ext cx="80643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剂量终末运动不能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低蛋白饮食，将左旋多巴分成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次小量服用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开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现象：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多出现在症状改善及有多动症的患者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一种双相现象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正常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时表现为僵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，运动不能，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与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关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隶书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可迅速交替出现。</a:t>
            </a:r>
            <a:r>
              <a:rPr b="0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1293840" y="3500280"/>
            <a:ext cx="26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）运动功能的波动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2355120" y="1051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11280" y="2204640"/>
            <a:ext cx="8353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奇相运动不能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又称低张性凝固</a:t>
            </a:r>
            <a:r>
              <a:rPr b="1" lang="zh-CN" sz="3200" spc="-1" strike="noStrike">
                <a:solidFill>
                  <a:srgbClr val="8ac8de"/>
                </a:solidFill>
                <a:latin typeface="隶书"/>
                <a:ea typeface="隶书"/>
              </a:rPr>
              <a:t> 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双相多动症：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需减少药量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精神症状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出现失眠、焦虑、恶梦、狂躁、幻觉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妄想、抑郁等精神病症状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机制与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过度兴奋中脑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边缘系统</a:t>
            </a: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DA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体有关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    √</a:t>
            </a: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需减量或停药。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210760" y="126756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药物不良反应和药疗监护须知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2"/>
          <p:cNvSpPr/>
          <p:nvPr/>
        </p:nvSpPr>
        <p:spPr>
          <a:xfrm>
            <a:off x="755640" y="3068640"/>
            <a:ext cx="7696080" cy="2050920"/>
          </a:xfrm>
          <a:prstGeom prst="wedgeRectCallout">
            <a:avLst>
              <a:gd name="adj1" fmla="val -20009"/>
              <a:gd name="adj2" fmla="val 9017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急性或严重精神病、溶血性贫血、孕妇、青光眼、心血管疾病、内分泌疾患者禁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有消化性溃疡、精神病史、癫痫病患者慎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556000" y="19890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禁忌证和注意事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826920" y="1125360"/>
            <a:ext cx="50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药物相互作用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39640" y="1989000"/>
            <a:ext cx="8136000" cy="41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单胺氧化酶抑制剂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MAOI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如优降宁等，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延缓多巴胺的降解，加强周围多巴胺的作用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B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多巴脱羧酶的辅酶 →↑外周不良反                                                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吩噻嗪类和丁酰苯类、利血平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多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胺受体 →药源性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和体位性低血压，左旋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巴疗效</a:t>
            </a:r>
            <a:r>
              <a:rPr b="1" lang="zh-CN" sz="28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拟肾上腺素药物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加重左旋多巴对心血管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副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7103160" y="33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50920" y="3141360"/>
            <a:ext cx="861048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左旋多巴外周脱羧作用，加强多巴胺受体的激动作用及促进多巴胺的释放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氨基酸脱羧酶抑制剂：苄丝肼与卡比多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单胺氧化酶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抑制药：司来吉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儿茶酚胺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氧位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甲基转移酶抑制药：硝替卡朋、托卡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184760" y="2492280"/>
            <a:ext cx="163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作用特点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3227400" y="14835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左旋多巴增效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24360" y="304560"/>
            <a:ext cx="4991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学习内容和要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9280" y="1413000"/>
            <a:ext cx="7799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掌握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抗帕金森病药物的分类及左旋多巴药理作用 及其机制、临床应用、不良反应和药物相互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左旋多巴与左旋多巴增效剂合用的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熟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溴隐亭、金刚烷胺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苯海索的药理作用及临床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51991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苄丝肼与卡比多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外周的脱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血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 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76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脑组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648320" y="2679840"/>
            <a:ext cx="4249440" cy="3311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特点：单用无效，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合用疗效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卡比多巴与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L-dopa 1:10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帕金宁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marL="347760" indent="-34776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苄丝肼与左旋多巴 </a:t>
            </a:r>
            <a:r>
              <a:rPr b="1" lang="en-US" sz="2800" spc="-1" strike="noStrike">
                <a:solidFill>
                  <a:srgbClr val="ffffff"/>
                </a:solidFill>
                <a:latin typeface="隶书"/>
                <a:ea typeface="隶书"/>
              </a:rPr>
              <a:t>1: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混合为美多巴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司来吉兰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elegil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8360" y="2565000"/>
            <a:ext cx="799128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选择性抑制中枢神经系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AO-B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降低脑内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降解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浓度↑，保护黑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神经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司来吉兰与左旋多巴合用，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疗效，可减少后者的剂量和副作用，使左旋多巴的“开关”现象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3492360" y="5013360"/>
            <a:ext cx="4392720" cy="1297080"/>
          </a:xfrm>
          <a:prstGeom prst="wedgeRoundRectCallout">
            <a:avLst>
              <a:gd name="adj1" fmla="val -33879"/>
              <a:gd name="adj2" fmla="val -49754"/>
              <a:gd name="adj3" fmla="val 16667"/>
            </a:avLst>
          </a:prstGeom>
          <a:solidFill>
            <a:srgbClr val="000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肠道，代谢外周单胺类物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MAO-B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：黑质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纹状体，代谢</a:t>
            </a:r>
            <a:r>
              <a:rPr b="1" lang="en-US" sz="2400" spc="-1" strike="noStrike">
                <a:solidFill>
                  <a:srgbClr val="ffffff"/>
                </a:solidFill>
                <a:latin typeface="隶书"/>
                <a:ea typeface="隶书"/>
              </a:rPr>
              <a:t>DA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0"/>
          <p:cNvSpPr/>
          <p:nvPr/>
        </p:nvSpPr>
        <p:spPr>
          <a:xfrm>
            <a:off x="395280" y="14842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COM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抑制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468360" y="2133720"/>
            <a:ext cx="81532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降低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降解、又减少其代谢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生成的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M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3-O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甲基多巴）对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转运入脑的竞争性抑制作用。提高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的生物利用度。主要用于重症患者长期使用左旋多巴后疗效下降以及出现“开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关”现象的辅助治疗；可使左旋多巴的疗效平稳，延长症状波动病人“开”的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硝替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不易通过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BBB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不影响脑内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托  卡  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 同时抑制外周和中枢的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。有肝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恩他卡朋：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抑制外周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COM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553080" y="5791320"/>
            <a:ext cx="198144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6000480" y="30276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左旋多巴增效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0096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金刚烷胺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mantad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原是抗病毒药</a:t>
            </a:r>
            <a:br>
              <a:rPr sz="32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特点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起效快，持续时间短。肌肉强直、震颤和运动障碍的缓解。抗胆碱药＜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金刚烷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机制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通过多种方式加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功能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1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促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进入脑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2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释放和减少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重摄取；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3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激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受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不良反应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长期使用，下肢皮肤出现网状青斑和踝部水肿（儿茶酚胺释放收缩血管）；偶致惊厥，癫痫患者禁用；脑动脉硬化者及孕妇禁用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780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1520" y="2660760"/>
            <a:ext cx="8364600" cy="31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可直接激动多巴胺受体，能通过血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脑屏障，有较强的选择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本品可减轻帕金森病患者的运动不能、僵直和震颤。对左旋多巴有禁忌、不能耐受或疗效不佳者可使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良反应与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类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消化系统疾病、心血管系统疾病和精神病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1137960" y="1943280"/>
            <a:ext cx="41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溴隐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romocript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2792880" y="11959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第二节 多巴胺受体激动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292720" y="333360"/>
            <a:ext cx="3119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24000" y="1484280"/>
            <a:ext cx="85690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作用机制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阻断中枢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胆碱受体，减弱纹状体中</a:t>
            </a: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的作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95280" y="184464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苯海索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rihexyphenidyl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又称安坦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arta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324000" y="3284640"/>
            <a:ext cx="849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适用于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轻症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不耐受或禁用左旋多巴的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与左旋多巴合用，可使患者症状得到进一步改善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隶书"/>
                <a:ea typeface="隶书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治疗抗精神病药引起的帕金森综合征有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良反应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：与</a:t>
            </a:r>
            <a:r>
              <a:rPr b="1" lang="zh-CN" sz="2800" spc="-1" strike="noStrike">
                <a:solidFill>
                  <a:srgbClr val="046ca6"/>
                </a:solidFill>
                <a:latin typeface="Arial Black"/>
                <a:ea typeface="隶书"/>
              </a:rPr>
              <a:t>阿托品相似，但轻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禁用：</a:t>
            </a:r>
            <a:r>
              <a:rPr b="1" lang="zh-CN" sz="2800" spc="-1" strike="noStrike">
                <a:solidFill>
                  <a:srgbClr val="046ca6"/>
                </a:solidFill>
                <a:latin typeface="隶书"/>
                <a:ea typeface="隶书"/>
              </a:rPr>
              <a:t>青光眼患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287160" y="112536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第三节 中枢性抗胆碱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724360" y="404640"/>
            <a:ext cx="311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65534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帕金森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’s disease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又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震颤麻痹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是锥体外系功能紊乱所引起的一种慢性中枢神经系统退行性疾病。是中老年人常见的中枢神经系统退行性疾病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临床常见的症状主要是：静止性震颤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esting tremor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肌肉强直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rigidity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运动障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akinesia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、 姿势异常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postural   dysfunction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随着疾病的发展，大多患者会出现认知及精神障碍</a:t>
            </a:r>
            <a:r>
              <a:rPr b="0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帕金森病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Picture 5" descr="pdntr"/>
          <p:cNvPicPr/>
          <p:nvPr/>
        </p:nvPicPr>
        <p:blipFill>
          <a:blip r:embed="rId1"/>
          <a:stretch/>
        </p:blipFill>
        <p:spPr>
          <a:xfrm>
            <a:off x="6918480" y="2421000"/>
            <a:ext cx="2225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8000" y="1916280"/>
            <a:ext cx="4535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隶书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这个病是以英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而命名，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17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，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隶书"/>
              </a:rPr>
              <a:t>James 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他的论文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震颤麻痹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“An Essay on the Shaking Palsy”)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详细的描述这个疾病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2592360" cy="388764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6469920" y="1916280"/>
            <a:ext cx="2667960" cy="4559040"/>
            <a:chOff x="6469920" y="1916280"/>
            <a:chExt cx="2667960" cy="4559040"/>
          </a:xfrm>
        </p:grpSpPr>
        <p:pic>
          <p:nvPicPr>
            <p:cNvPr id="114" name="Picture 6" descr="park00"/>
            <p:cNvPicPr/>
            <p:nvPr/>
          </p:nvPicPr>
          <p:blipFill>
            <a:blip r:embed="rId2"/>
            <a:stretch/>
          </p:blipFill>
          <p:spPr>
            <a:xfrm>
              <a:off x="7021800" y="1916280"/>
              <a:ext cx="1681560" cy="398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6469920" y="5955120"/>
              <a:ext cx="2667960" cy="520200"/>
            </a:xfrm>
            <a:prstGeom prst="rect">
              <a:avLst/>
            </a:prstGeom>
            <a:solidFill>
              <a:srgbClr val="046ca6"/>
            </a:solidFill>
            <a:ln w="22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Monograph by James Parkinson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dddddd"/>
                  </a:solidFill>
                  <a:latin typeface="Times New Roman"/>
                  <a:ea typeface="宋体"/>
                </a:rPr>
                <a:t>1817</a:t>
              </a:r>
              <a:endParaRPr b="0" lang="en-US" sz="1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539640" y="435636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186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年法国医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Charcot J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又补充了一项重要体征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肌强直，明确为一个独立的疾病。为纪念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，正式命名为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8" name="Picture 4" descr="PD11"/>
          <p:cNvPicPr/>
          <p:nvPr/>
        </p:nvPicPr>
        <p:blipFill>
          <a:blip r:embed="rId1"/>
          <a:stretch/>
        </p:blipFill>
        <p:spPr>
          <a:xfrm>
            <a:off x="5796000" y="4417920"/>
            <a:ext cx="2881440" cy="2440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611280" y="1844640"/>
            <a:ext cx="396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皇帝内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及唐代著名医学家孙思邈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千金要方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已有报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0" name="Picture 6" descr="21"/>
          <p:cNvPicPr/>
          <p:nvPr/>
        </p:nvPicPr>
        <p:blipFill>
          <a:blip r:embed="rId2"/>
          <a:stretch/>
        </p:blipFill>
        <p:spPr>
          <a:xfrm>
            <a:off x="5867280" y="1268280"/>
            <a:ext cx="2449800" cy="2880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5167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1950s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，瑞典科学家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Arvid Carlsson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确定了帕金森病（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PD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）脑的基本化学改变，由于他的大量的研究工作他获得诺贝尔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他的研究使人们认识到大脑特定部位多巴胺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(DA)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缺乏可导致帕金森病，并推动了该病治疗药物的研制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6084720" y="1844640"/>
          <a:ext cx="29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844640"/>
                    <a:ext cx="29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36680" y="1714680"/>
            <a:ext cx="82342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-181080" y="1557360"/>
            <a:ext cx="74898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隶书"/>
              </a:rPr>
              <a:t>分型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隶书"/>
              </a:rPr>
              <a:t>根据病因分为：</a:t>
            </a:r>
            <a:br>
              <a:rPr sz="4000"/>
            </a:b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2781360"/>
            <a:ext cx="8209080" cy="41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原发性：即帕金森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继发性：动脉硬化、脑炎后遗症、 化学药物中毒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引起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均出现类似原发性帕金森病的症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状，总称为帕金森综合征 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Parkinsonism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124680" y="260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抗帕金森病药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292360" y="333000"/>
            <a:ext cx="311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抗帕金森病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610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本病系由黑质致密区多巴胺神经元丢失，纹状体多巴胺含量下降，造成多巴胺能神经功能不足。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Ac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能神经功能相对亢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治疗帕金森病的药物大体可分为两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增加脑内多巴胺含量及多巴胺受体激动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中枢性抗胆碱药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AutoShape 4"/>
          <p:cNvSpPr/>
          <p:nvPr/>
        </p:nvSpPr>
        <p:spPr>
          <a:xfrm rot="1195200">
            <a:off x="6443640" y="5229360"/>
            <a:ext cx="2478240" cy="7776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74920" y="5157720"/>
            <a:ext cx="2664000" cy="71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851280" y="5229360"/>
            <a:ext cx="1339920" cy="72072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6946920" y="5300640"/>
            <a:ext cx="1339920" cy="64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3348000" y="4365720"/>
            <a:ext cx="863640" cy="7779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4930920" y="4365720"/>
            <a:ext cx="865080" cy="777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8099280" y="4653000"/>
            <a:ext cx="865440" cy="85104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Oval 11"/>
          <p:cNvSpPr/>
          <p:nvPr/>
        </p:nvSpPr>
        <p:spPr>
          <a:xfrm>
            <a:off x="6588000" y="4076640"/>
            <a:ext cx="838440" cy="83844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3348000" y="44370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659640" y="4292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859280" y="4437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3995640" y="595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正常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7114320" y="5950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隶书"/>
              </a:rPr>
              <a:t>帕金森病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8001000" y="4724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c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0920" y="4508640"/>
            <a:ext cx="7561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Verdana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L-dop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在体内是左旋酪氨酸合成儿茶酚胺的中间产物，为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DA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隶书"/>
              </a:rPr>
              <a:t>前体物，现已人工合成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95280" y="1773360"/>
            <a:ext cx="9144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左旋多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evo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L-do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4800600" cy="1587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Rectangle 5"/>
          <p:cNvSpPr/>
          <p:nvPr/>
        </p:nvSpPr>
        <p:spPr>
          <a:xfrm>
            <a:off x="3564000" y="404640"/>
            <a:ext cx="50641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第一节 补充脑内多巴胺药</a:t>
            </a: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1:49:52Z</dcterms:modified>
  <cp:revision>5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